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056D-2B00-4397-AA35-63AA78DFF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3432-734F-44E8-A5F8-7298EA247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6ABC-8907-4A9C-859D-0004E8BC3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0CB9-4793-440B-8A79-72D4F94A3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1C9F-4E0E-42A5-B928-624CBD73F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5171-96AD-4A1B-ABCB-B78B9CCFB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3F05-7BA1-4F09-A8FA-9585A4759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25C1-BCB6-4069-A18A-C80A42197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206E-B64C-41C6-B3B9-B1F2F7EAF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EB41-2F94-460C-8B8D-0528FB089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DB25-9660-4F8C-8385-0FA644B4B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5DF5-EB83-4497-A136-3A47362D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4D69C-7208-40FB-B056-A9646CA4EB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Guide 8-6 –The gas la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12193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Increasing pressure affects the volume of a contained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43000" y="152388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How?  As pressure of a gas increases, the volume decreases and vice versa (if temp is constant, rememb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22860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yle’s law: Pressure and Volu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for a given mass of gas at a constant temp, the volume of the gas varies inversely with pres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50292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mathematical expression of Boyle’s la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334120"/>
            <a:ext cx="7086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x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x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27672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in an inverse relationship, the product of the two variable quantities is constant. Hu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95280" y="403848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the product of pressure and volume at any 2 sets of pressure and volume conditions is always constant at a given te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graph of inverse relationship always a cur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inversegraph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5867640" cy="44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g. 418 Figure 14.8 Interpreting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1295280"/>
            <a:ext cx="739152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he volume is 2.0 L, what is the pressure? 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would the pressure be if the volume were increased to 3.0 L (estimate)? 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the shape of the graph, describe the general pressure-volume relationshi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90720" y="495288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49528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ple problem 14.1 pg 4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arles’s Law: Temp and Volu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90720" y="144792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as the temp of an enclosed gas increases, the volume increases, if the pressure is cons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90720" y="23623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volume of a fixed mass of gas is directly proportional to its Kelvin temp IF the pressure is kept cons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90720" y="3200400"/>
            <a:ext cx="731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3809880"/>
            <a:ext cx="74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ratio of the variables is always a constant in a direct relation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graph is always a straight line (because relationshi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propor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717d3f69-1755-45fd-ae8f-d7718a399b9e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6561000" cy="37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Sample problem 14.2 pg. 4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14479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ay-Lussac’s Law:  Pressure and Te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9051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as the temp of an enclosed gas increases, the pressure increases IF the volume is cons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14400" y="281952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pressure of a gas is directly proportional to the Kelvin temp if the volume remains cons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95280" y="3657600"/>
            <a:ext cx="4953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4197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ple problem 14.3 page 4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4T03:52:36Z</dcterms:created>
  <dc:creator>jpak</dc:creator>
  <dc:description/>
  <dc:language>en-US</dc:language>
  <cp:lastModifiedBy>Farwell Area Schools</cp:lastModifiedBy>
  <dcterms:modified xsi:type="dcterms:W3CDTF">2008-01-24T18:51:54Z</dcterms:modified>
  <cp:revision>8</cp:revision>
  <dc:subject/>
  <dc:title>Note Guide 8-6 –The gas laws</dc:title>
</cp:coreProperties>
</file>